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6037-6C3C-46B4-BEF9-BA5D287C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9CE-1E76-4D0A-9879-D4B3B087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12E3-0805-40C8-AC79-DDFA24D0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0F1-A430-45D3-B8C5-C7B3A2A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14F-5124-4A97-A7DB-0918DD3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084-5A54-4B6C-9959-BA1DA4D8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72D-A864-4419-8379-CCC231FF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AB7-BD4C-47B3-9EA6-1F80D590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85A-EC61-4F6C-AD9A-D80BE39A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8EE3-B43C-4518-9E74-DF2CC426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B8D-24E4-4BDA-8B24-C759E2B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2C2-6B34-4D3E-90C7-9567BC1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5466-B85A-4684-B7CE-31376888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152280"/>
            <a:ext cx="6858000" cy="85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cher Name: _________________ Deutscher Name: 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Zuhören) Wer hat welche Tiere und wie viele?  Höre zu und schrei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okabeln) Kannst du 8 Tiere erkennen?  Schreib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r/die/d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uc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eibt alle Tiere die du kennst mit Artikel (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elche Farbe hat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 Sonne?          Ein Pferd?                  Das Gras?                          Ein Kürb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Minidialoge.  Ergänze s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e  – meine – ein – kein - 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 du ______________ Haust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h habe _______________ Pferd, aber das ist ____________ Haustier.  Es wohnt auf dem L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 Schwester hat _____________ Ra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.  Ratten sind eckelha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Scheibe über Martina.  Benutze all Informat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gern/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nicht g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ina * 16 * Tie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* Katze * Fisch (m.) * Katze: Mimi, 3 * Fisch: Happy Feet, Katz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reibe die “der” Wörter und “ein/kein” Wörter. (Tabel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Schreibe die richtigen “der” oder “ein” Wör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 Pinguin wohnt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kti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(t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h mag ______________ Schwester nicht.  (yo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t du _____________________ Papagei? 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Lies diesen Paragraf und antworte die Fragen auf Deuts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5740560"/>
          <a:ext cx="3352680" cy="1117440"/>
        </p:xfrm>
        <a:graphic>
          <a:graphicData uri="http://schemas.openxmlformats.org/drawingml/2006/table">
            <a:tbl>
              <a:tblPr/>
              <a:tblGrid>
                <a:gridCol w="533520"/>
                <a:gridCol w="807840"/>
                <a:gridCol w="716040"/>
                <a:gridCol w="685800"/>
                <a:gridCol w="6094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3505320" y="5715000"/>
          <a:ext cx="3352680" cy="1117440"/>
        </p:xfrm>
        <a:graphic>
          <a:graphicData uri="http://schemas.openxmlformats.org/drawingml/2006/table">
            <a:tbl>
              <a:tblPr/>
              <a:tblGrid>
                <a:gridCol w="533160"/>
                <a:gridCol w="808200"/>
                <a:gridCol w="716040"/>
                <a:gridCol w="685800"/>
                <a:gridCol w="609480"/>
              </a:tblGrid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kul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533520" y="54100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Wö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962520" y="53341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n Wö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4:13:04Z</dcterms:created>
  <dc:creator>udsd</dc:creator>
  <dc:description/>
  <dc:language>en-US</dc:language>
  <cp:lastModifiedBy>ahart</cp:lastModifiedBy>
  <dcterms:modified xsi:type="dcterms:W3CDTF">2012-10-25T14:19:41Z</dcterms:modified>
  <cp:revision>9</cp:revision>
  <dc:subject/>
  <dc:title>Slide 1</dc:title>
</cp:coreProperties>
</file>